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0FA-3C2E-4A2E-ABCA-1CE4E520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FB7-0070-4B43-AD72-1FCCDBBF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1FD-5E59-4BF0-A46E-811A01EA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48B-F02F-4230-830B-C7F4843E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FEAD-B39A-4BE5-BFA3-C24807BD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3953-74CE-4836-981B-86AE55D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CEF-7045-4316-A318-68657E47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9511-B600-48B6-AEE8-1F895A9E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B3BE-A7CC-404E-81C4-3E685D9A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C911-771B-4CF5-9EFB-5DE0A3B7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8FD9-6562-46CD-B757-90B7C503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D63-B9F1-4F47-B97A-A461804E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F435-2CCA-4BFC-A5F4-6F0D68B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ABEC-FD3A-4C03-AA35-A9D1BEF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6C8B-DBDB-4CE3-ADBA-5946275D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4ECF-261E-41A0-964A-DE16C075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3B14-8E50-4195-8B56-6731D9C6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9CC-5B19-48AC-B23A-73704D7E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49E-9E3A-453E-95BC-A0D7F7B9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BFF-DED6-4F37-915B-E0DBD526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BFE-B76A-42C7-9022-4227808D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D18-085E-46D2-BFE7-0042FCAA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482-D9A0-4692-AA97-2953C40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6C3-C719-4B91-AD6E-4219836E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2B84-4C8C-4B5F-BC97-A2983C1F5A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D9F7-464B-4E14-84B2-D3519754B8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00400" y="3581280"/>
            <a:ext cx="2819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Kelsey Littlet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2819520"/>
            <a:ext cx="685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University of Alabam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I Chose Ala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1337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44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 They have a nice campu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2819520"/>
            <a:ext cx="5791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They offer good education and teach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y provide the career that I would like to pur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00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- This university is close to where I l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I’m also an Alabama F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55627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- Good Interior Design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abama vs. Aubur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676520"/>
          <a:ext cx="4605480" cy="29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605480" cy="29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267080" y="3778200"/>
          <a:ext cx="4876920" cy="307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778200"/>
                    <a:ext cx="48769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724280" y="17524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Alabama requires a higher GPA score than Aub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6668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Auburn requires a higher ACT score than Alab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055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labama’s cost of items while attending college, is a little bit more than Auburn’s cost of i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1066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arison Ch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523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abama’s Camp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52880" y="1447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picture to the left is a photo of the Bryant Conference Cen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8763120" cy="2133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48320" y="33526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other picture of the university’s cam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7543800" y="3276360"/>
            <a:ext cx="1219320" cy="1066680"/>
          </a:xfrm>
          <a:custGeom>
            <a:avLst/>
            <a:gdLst>
              <a:gd name="textAreaLeft" fmla="*/ 406440 w 1219320"/>
              <a:gd name="textAreaRight" fmla="*/ 1044360 w 121932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c00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19720" y="259092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20876400">
            <a:off x="304560" y="304920"/>
            <a:ext cx="2200320" cy="1730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71800" y="7621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Timeline and History of The University of Alab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666880"/>
            <a:ext cx="853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6668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5053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9718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831 - The university was opened and 52 students enrolled that ye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6668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343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09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51 – total university enrollment: 126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6668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971800" y="4952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4956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892 – first football team was assembled, called the “Thin Red Line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666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28195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911 – total university enrollment: 571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6668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3657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657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51814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956 – the university’s first African American student was admitt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26668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486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68 – the first computer based program was establish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animClr clrSpc="rgb"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set>
                                      <p:cBhvr>
                                        <p:cTn id="1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1522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onclus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066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As you can see, I have chosen many reasons why I want to attend this fine school. In my opinion, I think it fits me very well. I hope in the future, I will be able to attend The University of Alab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20863800">
            <a:off x="304920" y="5105520"/>
            <a:ext cx="1366560" cy="1523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810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nk Yo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1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Kel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rot="781200">
            <a:off x="7314840" y="5105520"/>
            <a:ext cx="1536840" cy="1477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3048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20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229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8:18:46Z</dcterms:created>
  <dc:creator>fhsstudent</dc:creator>
  <dc:description/>
  <dc:language>en-US</dc:language>
  <cp:lastModifiedBy>fhsstudent</cp:lastModifiedBy>
  <dcterms:modified xsi:type="dcterms:W3CDTF">2009-09-25T19:02:22Z</dcterms:modified>
  <cp:revision>4</cp:revision>
  <dc:subject/>
  <dc:title>The University of Alabama</dc:title>
</cp:coreProperties>
</file>